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10F25-8FC0-414F-8CB9-E24762581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7E6E0-F05C-4119-824F-62A8B6E17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5F5FF-CC51-4640-B9FA-83B8A61A6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84CE7-F4D7-4C85-97C9-232FED889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56D71-70FD-4ECA-82C9-A68CB6C11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1B06D-6393-4189-86B5-D4A5B86B3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8F5AC-D5EC-46CB-B0E5-C7A3A2F73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5088B-0734-46BE-96A2-40315E52A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985C7-11A8-4BED-99F8-607910841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C6288-033E-4771-B01F-2FA56DF07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0471D-D3CF-474E-BACD-EF08C36A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76471-D531-451A-97DD-E9850E000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895FE-C7E7-4BF3-93B0-261C84819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667EA-127E-42AB-B02D-9358FAAA4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81F47-1F48-491A-9857-58485C89C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2EA44-BA8D-4D02-A42F-7EDAF5410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6E2E4-63C1-46FE-ADF5-6D5DC5212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3D9F6-D092-4AF1-80FC-D95417568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FEC70-1A82-4D36-9324-13D7CD106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F144F-FFBD-4F58-956D-B2B566121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AF186-2320-443E-98CF-24748D3E7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2A282-FD6D-47A9-8610-128BF1ADD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0B3E7-9680-4869-A7C9-933FC1CE3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31AB5-3767-44BE-AF1A-92C8CF982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40DE5-0C6F-4E03-ADB1-29905DB1D3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5a5a86"/>
                  </a:gs>
                  <a:gs pos="100000">
                    <a:srgbClr val="66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5a5a86"/>
                  </a:gs>
                  <a:gs pos="100000">
                    <a:srgbClr val="66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DF0B7-7009-4CE2-83C1-7F9090F9048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Subordination</a:t>
            </a:r>
            <a:endParaRPr b="1" lang="en-US" sz="6000" spc="-1" strike="noStrike">
              <a:solidFill>
                <a:srgbClr val="dfdfe9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 Choose the correct subordinating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junction to complete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We like Professor Garcia _____ she presents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information clearly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even though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becaus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although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 Choose the correct subordinating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junction to complete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We like Professor Garcia _____ she presents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information clearly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even though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B) becaus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although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. Choose the correct subordinating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junction to complete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My nephews and nieces are fun to baby sit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_______ they’re awfully noisy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if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even though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. Choose the correct subordinating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junction to complete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My nephews and nieces are fun to baby sit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_______ they’re awfully noisy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if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C) even though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6. Choose the correct subordinating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junction to complete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________ you were napping, the dogs got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into the garbage cans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Whi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Wher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So tha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6. Choose the correct subordinating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junction to complete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________ you were napping, the dogs got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into the garbage cans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A) Whi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Wher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So tha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7. Choose the correct subordinating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junction to complete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_______ we moved to this neighborhood,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our car has been broken into thre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imes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Sinc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Befor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7. Choose the correct subordinating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junction to complete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_______ we moved to this neighborhood,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our car has been broken into thre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imes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A) Sinc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Befor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8. Choose the correct subordinating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junction to complete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I want to go to Hollywood _______ I can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ulfill my dream of being a movie star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although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unles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so tha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8. Choose the correct subordinating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junction to complete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I want to go to Hollywood _______ I can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ulfill my dream of being a movie star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although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unles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C) so tha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What is subordination?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238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ike coordination,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subordination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joins two closely related sentences. However, with subordination, you put a dependent word (such as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fter, although,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r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because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) in front of one of the sentences. These words are known as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subordinating conjunction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RELATED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SENTENCES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oy got a higher-paying job.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He was able to buy a car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JOINED  Because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Roy got a higher-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 paying job, he was able to buy a car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9. Choose the correct subordinating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junction to complete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_______ I see a good opportunity, I try to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ake advantage of it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Although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Whe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Unles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9. Choose the correct subordinating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junction to complete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_______ I see a good opportunity, I try to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ake advantage of it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Although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B) Whe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Unles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. Choose the correct subordinating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junction to complete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____ you apologize, Danielle probably will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orgive you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So tha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If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. Choose the correct subordinating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junction to complete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____ you apologize, Danielle probably will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orgive you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So tha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C) If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ommon Subordinating Conjunctions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ft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efo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unle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lthoug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ven thoug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unti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wh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s i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in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whe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eca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o th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whi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hoose the correct subordinating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junction to complete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enc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______ Nat is often annoying, he can b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very kind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After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Becaus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Although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hoose the correct subordinating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junction to complete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enc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______ Nat is often annoying, he can b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very kind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After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Becaus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C) Although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Choose the correct subordinating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junction to complete the 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________ you go to the party, make sur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you let them know you’re coming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Befor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Even though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Wher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Choose the correct subordinating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junction to complete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________ you go to the party, make sur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you let them know you’re coming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A) Befor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Even though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Wher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 Choose the correct subordinating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junction to complete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We will have classes tomorrow ______ it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nows in the morning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as if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so that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 unles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 Choose the correct subordinating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junction to complete th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ence.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We will have classes tomorrow ______ it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nows in the morning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) as if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so that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C) unles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9T16:19:37Z</dcterms:created>
  <dc:creator>BSM</dc:creator>
  <dc:description/>
  <dc:language>en-US</dc:language>
  <cp:lastModifiedBy>BSM</cp:lastModifiedBy>
  <dcterms:modified xsi:type="dcterms:W3CDTF">2008-02-14T16:58:30Z</dcterms:modified>
  <cp:revision>155</cp:revision>
  <dc:subject/>
  <dc:title>Sentence Fragments</dc:title>
</cp:coreProperties>
</file>